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BCB-FFAB-4123-8B94-84583597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A03-BE46-4505-82F6-8380ACF6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EC6-F5AF-4456-8B72-B28143F5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23A0-3FFA-4DFC-A66D-7404B461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485D7-C696-42E9-9379-C7EF3617B8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0AE91-B100-4512-B2B6-8A07E7A43B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94794-A9AE-49DC-BB0F-F8ECA97CDE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487A6-0FD3-4731-BE46-0D168E1C9E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4165B-2902-49D5-9659-7F1C95ADC3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4083E-EDD4-4D8D-9F1D-C907DE27B8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82F8D-81D5-4644-AD5E-9847EFF693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67DA-72F6-4992-9722-FFEB9144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C80CE-6DF4-4D34-A6EE-FA328A7039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109C5-B14A-4AC6-9E2D-109D3B96CE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9895A-A2D5-455C-A3A8-1B46E1565A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0530D-FF72-4F25-AA51-F7794E6E04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2B51D-9F6D-42B3-B592-3F9639FA44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003633-854C-4344-A151-640E2F4E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79F0D1-72DF-4877-B63C-182AC2B0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8E707A-A85F-48B4-B6AB-8309FB2A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A7B838-FCF1-4E4C-819F-7C3733EF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C46658-881F-4279-9DB9-8C20CEEE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269-B904-401E-8BC2-BBF133F3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7FAB4D-6BD6-45B8-AE32-3F623D30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9D1AD-061F-4DF5-831F-9A32C1AF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8569AA-64FA-4489-9404-00533AC3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07D6C4-7910-4E0A-BD38-BC2324EB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7AE308-0511-4CE5-B919-EB35BFC4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8D628E-E13D-459E-8087-1CC52912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BA7128-7945-4A36-8480-D1605E17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7115-F5C9-48CB-AC7A-4EC46C64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5F3-FD42-488F-A7E3-21DBA3D0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C023-B722-4919-9C97-AF3EB872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AB02-0872-4BA4-9E88-1B341391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486-A7D4-4AC2-B683-26F5998E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1FA7-99CD-49AA-B304-7934DE9B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0F04-0FF6-4F03-9E6C-C79F51FC2F9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>
              <a:gd name="textAreaLeft" fmla="*/ 0 w 8353440"/>
              <a:gd name="textAreaRight" fmla="*/ 8353800 w 83534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>
              <a:gd name="textAreaLeft" fmla="*/ 0 w 9189720"/>
              <a:gd name="textAreaRight" fmla="*/ 9190080 w 918972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>
              <a:gd name="textAreaLeft" fmla="*/ 0 w 9190080"/>
              <a:gd name="textAreaRight" fmla="*/ 9190440 w 9190080"/>
              <a:gd name="textAreaTop" fmla="*/ 0 h 1230480"/>
              <a:gd name="textAreaBottom" fmla="*/ 1230480 h 1230480"/>
            </a:gdLst>
            <a:ahLst/>
            <a:rect l="textAreaLeft" t="textAreaTop" r="textAreaRight" b="textAreaBottom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ECD7-2BE6-4A9E-BE54-5D572301C6BE}" type="slidenum">
              <a:rPr b="0" lang="ru-RU" sz="1400" spc="-1" strike="noStrike">
                <a:solidFill>
                  <a:srgbClr val="2c628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CC36-1CBD-4386-8C63-C4564B5B46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>
              <a:gd name="textAreaLeft" fmla="*/ 0 w 9182160"/>
              <a:gd name="textAreaRight" fmla="*/ 9182520 w 9182160"/>
              <a:gd name="textAreaTop" fmla="*/ 0 h 2892240"/>
              <a:gd name="textAreaBottom" fmla="*/ 2892240 h 2892240"/>
            </a:gdLst>
            <a:ahLst/>
            <a:rect l="textAreaLeft" t="textAreaTop" r="textAreaRight" b="textAreaBottom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>
              <a:gd name="textAreaLeft" fmla="*/ 0 w 9185400"/>
              <a:gd name="textAreaRight" fmla="*/ 9185400 w 918540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0033"/>
                </a:solidFill>
                <a:latin typeface="Times New Roman"/>
              </a:rPr>
              <a:t>Расходы бюджет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11280" y="1599840"/>
            <a:ext cx="820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ходы бюдже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ыплачиваемые из бюджета денежные сре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ъём расходо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ется исходя из объёма средств, необходимых для исполнения установленных законодательством полномочий органов местного самоуправлени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ходы местного  бюджет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лассифицирую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разделам и подраздел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униципальным программам по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Структура расходов бюджета Гришевского сельского поселения на 2022 год, тыс.руб.; %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6" name="Object 5"/>
          <p:cNvGraphicFramePr/>
          <p:nvPr/>
        </p:nvGraphicFramePr>
        <p:xfrm>
          <a:off x="447840" y="1628640"/>
          <a:ext cx="819144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" y="1628640"/>
                    <a:ext cx="81914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Структура расходов бюджета Гришевского сельского поселения на 2023 год, тыс.руб.; %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9" name="Object 5"/>
          <p:cNvGraphicFramePr/>
          <p:nvPr/>
        </p:nvGraphicFramePr>
        <p:xfrm>
          <a:off x="428760" y="1695600"/>
          <a:ext cx="8246880" cy="454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695600"/>
                    <a:ext cx="824688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Структура расходов бюджета Гришевского сельского поселения на 2024 год, тыс.руб.; %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2" name="Object 5"/>
          <p:cNvGraphicFramePr/>
          <p:nvPr/>
        </p:nvGraphicFramePr>
        <p:xfrm>
          <a:off x="395280" y="1773360"/>
          <a:ext cx="8353440" cy="457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353440" cy="45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60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0033"/>
                </a:solidFill>
                <a:latin typeface="Times New Roman"/>
              </a:rPr>
              <a:t>Проект бюджета Гришевского сельского поселения формируется в рамках 1 муниципальной программы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2195640" y="1628640"/>
            <a:ext cx="4897440" cy="1295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ниципальная программа на 2019 – 2024 го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203640" y="6165720"/>
            <a:ext cx="3097080" cy="30708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,0 % расходов бюдж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2857680" y="3500280"/>
            <a:ext cx="3571560" cy="1357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администр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ишевског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льского поселения Подгорен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ипального района Воронеж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 flipV="1" rot="5420400">
            <a:off x="4642560" y="2347560"/>
            <a:ext cx="358920" cy="7129440"/>
          </a:xfrm>
          <a:custGeom>
            <a:avLst/>
            <a:gdLst>
              <a:gd name="textAreaLeft" fmla="*/ 0 w 358920"/>
              <a:gd name="textAreaRight" fmla="*/ 359280 w 358920"/>
              <a:gd name="textAreaTop" fmla="*/ 360 h 7129440"/>
              <a:gd name="textAreaBottom" fmla="*/ 7130160 h 712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lnTo>
                  <a:pt x="2160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7"/>
          <p:cNvSpPr/>
          <p:nvPr/>
        </p:nvSpPr>
        <p:spPr>
          <a:xfrm>
            <a:off x="4714920" y="30718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9"/>
          <p:cNvSpPr/>
          <p:nvPr/>
        </p:nvSpPr>
        <p:spPr>
          <a:xfrm>
            <a:off x="3708360" y="5013360"/>
            <a:ext cx="1943280" cy="30708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0 747,1 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cb-3</cp:lastModifiedBy>
  <cp:lastPrinted>2013-10-03T09:30:52Z</cp:lastPrinted>
  <dcterms:modified xsi:type="dcterms:W3CDTF">2022-05-18T12:27:43Z</dcterms:modified>
  <cp:revision>148</cp:revision>
  <dc:subject/>
  <dc:title>Слайд 1</dc:title>
</cp:coreProperties>
</file>