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F2B-9338-481B-96C3-325A56A591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8040" y="9377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4C2D19-B1B2-4F2C-A01B-8BEFAA4A0E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7000" y="7365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692240"/>
            <a:ext cx="54324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2D89-9151-4C61-9097-0E397C61C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052-124D-4170-88FE-95DCD378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276-0125-4390-963A-B2D311CD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26E-B659-4F90-A958-0B5C7B6A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46F-701D-40AD-8DCE-60E9FAD0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7A450-FE02-4E06-B530-B4A3485BAC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046BD-808F-4502-90AE-3AD769DF70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41648-7ED9-483E-9932-B94B8B2FC8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01575-8056-4D80-8782-BB7F4E1679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36288-0803-47A3-91AD-CE29AF7E9A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1CDC6-F252-4FC0-B1B5-4B58A086A1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DC0CC-B6D9-4E3B-8F50-09C170883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715-82D8-4E29-92D6-7E40E0E4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7EFEB-D688-4735-A87E-10C5681388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18CEC-7940-42B2-BDE1-B1EF025EC4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A344F-5700-45DF-B07A-52DE035827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D41DD-46B7-442A-B234-0021FEA5AD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B66D2-4370-4D0B-812B-5A1EB644AA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A9D85-A1C8-45E2-AD51-122ECEB1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A2656-7CB8-4A3E-A3D5-81848A0C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6565E6-9C3E-44FA-BF3F-F7324927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CCB25-55ED-477F-9B48-BE2415F8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45186-6D73-480B-8E64-E8472D8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B82-53A6-442A-BD4A-3A94A347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F4A7B-5D03-4C2D-B73F-1D04C31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98442-CA7B-4057-8264-5BB3D0A7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3BF6C-F6A6-4E9C-8DF3-D4575EA9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B9593-0DC0-467B-B793-27F633C9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84582-751F-4577-8908-AD9F1CF3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D56ECE-6B9E-4E25-8858-810AD0A5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3D563-D603-43F3-9895-464F9AA6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37D-5251-49E2-9566-44BAD056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E1A-87B8-42B4-8EDA-EEB8CEE2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C79-D75F-4382-A931-F1A6101E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069-4B97-4C9F-B117-E7AA5812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2C5-66F3-4FBB-AFDD-658DD7A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DF6-BE74-46CC-8BE0-E2B8475F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77BA-5DB6-4224-8207-1971D3E3D0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F4E6-8F63-401A-B4D7-D8CB6C8723F3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B24E-2AE6-4104-A71A-32D5FE7749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7548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Times New Roman"/>
              </a:rPr>
              <a:t>Бюджет для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1603440" y="3214800"/>
            <a:ext cx="68482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К БЮДЖ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ГРИШЕВСКОГО СЕЛЬСКОГО ПОС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НА 2022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И ПЛАНОВЫЙ ПЕРИОД 2023-2024 Г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71360" y="1071720"/>
            <a:ext cx="777708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юджет для граждан разрабатывается в целях ознакомления граждан с основными положениями проекта решения о бюджете Гришевского сельского поселения на 2022 год и плановый период 2023-2024 гг в доступной форме для широкого круга заинтересованных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9840" y="6215040"/>
            <a:ext cx="6858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348000" y="1989000"/>
            <a:ext cx="4824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Опыт - 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Варваровка -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Григорьевка -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Гришевка -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Кошарное -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Новоалександровка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Репьев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априно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ерпанки - 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х. Степановка - 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. Терновое - 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771640" y="5013360"/>
            <a:ext cx="4681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788000" y="1916280"/>
            <a:ext cx="43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1332000" y="1806840"/>
            <a:ext cx="6769080" cy="565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селение  1326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68360" y="33336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Гришевское сельское поселение  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на 01.01.2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Этапы составления и утверждения бюджета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ришевского сельского поселения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1" name="Схема 3" descr=""/>
          <p:cNvPicPr/>
          <p:nvPr/>
        </p:nvPicPr>
        <p:blipFill>
          <a:blip r:embed="rId1"/>
          <a:stretch/>
        </p:blipFill>
        <p:spPr>
          <a:xfrm>
            <a:off x="652320" y="1407960"/>
            <a:ext cx="8406000" cy="5357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3121200" y="1773360"/>
            <a:ext cx="5903640" cy="459000"/>
          </a:xfrm>
          <a:prstGeom prst="rect">
            <a:avLst/>
          </a:prstGeom>
          <a:solidFill>
            <a:srgbClr val="f5f5eb"/>
          </a:solidFill>
          <a:ln w="38160">
            <a:solidFill>
              <a:srgbClr val="aeae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Гришевского сельского поселения  начинается за 6 месяцев до начала очередного финансового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3112920" y="3357720"/>
            <a:ext cx="5904000" cy="12657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Гришевского сельского поселения глава   поселения  вносит на рассмотрение Совета народных депутатов Гришевского  сельского поселения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 Гришевского сельского поселения  проводятся публичные слушания. В слушаниях участвуют граждане, проживающие в Гришевском сельском поселении, а также представители организаций, осуществляющих деятельность на территории Гришевского сельского поселени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3119400" y="4929120"/>
            <a:ext cx="5905440" cy="1812600"/>
          </a:xfrm>
          <a:prstGeom prst="rect">
            <a:avLst/>
          </a:prstGeom>
          <a:solidFill>
            <a:srgbClr val="ffc7c7"/>
          </a:solidFill>
          <a:ln w="38160">
            <a:solidFill>
              <a:srgbClr val="e7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бюджета Гришевского сельского поселения утверждается Советом народных депутатов Гришевского сельского поселения в форме решения Совета народных депутатов Гришевского сельского по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ое  Советом народных депутатов Гришевского сельского поселения решение о проекте бюджете Гришевского сельского поселения подлежит обнародованию путем опубликования его в  вестнике муниципальных правовых актов Гришевского сельского поселения Подгоренского муниципального района Воронеж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Документы, на основании которых составляется проект бюджета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ришевского сельского поселения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0"/>
          <p:cNvSpPr/>
          <p:nvPr/>
        </p:nvSpPr>
        <p:spPr>
          <a:xfrm>
            <a:off x="1554120" y="206064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послание Президен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1547640" y="3151080"/>
            <a:ext cx="6704280" cy="91692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Губернатора области, в котором определяются основные направления бюджетной 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1547640" y="4292640"/>
            <a:ext cx="6697800" cy="980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Подгоренского муниципальн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Гришевского сельского по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1547640" y="544500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ая программа Гришевского 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огноз социально - экономического развития Гришевского сельского поселе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4"/>
          <p:cNvSpPr/>
          <p:nvPr/>
        </p:nvSpPr>
        <p:spPr>
          <a:xfrm>
            <a:off x="3500280" y="3000240"/>
            <a:ext cx="5597640" cy="1459800"/>
          </a:xfrm>
          <a:prstGeom prst="roundRect">
            <a:avLst>
              <a:gd name="adj" fmla="val 42380"/>
            </a:avLst>
          </a:prstGeom>
          <a:gradFill rotWithShape="0">
            <a:gsLst>
              <a:gs pos="0">
                <a:srgbClr val="ffd1ff"/>
              </a:gs>
              <a:gs pos="100000">
                <a:srgbClr val="f7f7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88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направления и ожидаемые результаты социально-экономического развития Гришевского сельского поселения   в среднесрочной перспект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5"/>
          <p:cNvSpPr/>
          <p:nvPr/>
        </p:nvSpPr>
        <p:spPr>
          <a:xfrm>
            <a:off x="576360" y="1989000"/>
            <a:ext cx="2663640" cy="374364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743640"/>
              <a:gd name="textAreaBottom" fmla="*/ 3613680 h 3743640"/>
            </a:gdLst>
            <a:ahLst/>
            <a:rect l="textAreaLeft" t="textAreaTop" r="textAreaRight" b="textAreaBottom"/>
            <a:pathLst>
              <a:path w="21600" h="30357">
                <a:moveTo>
                  <a:pt x="3600" y="0"/>
                </a:moveTo>
                <a:arcTo wR="3600" hR="3600" stAng="16200000" swAng="-5400000"/>
                <a:lnTo>
                  <a:pt x="0" y="26757"/>
                </a:lnTo>
                <a:arcTo wR="3600" hR="3600" stAng="10800000" swAng="-5400000"/>
                <a:lnTo>
                  <a:pt x="18000" y="30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гноз социально-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ришевского сельского посе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 2022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 на плановый  период  2023 и 2024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6"/>
          <p:cNvSpPr/>
          <p:nvPr/>
        </p:nvSpPr>
        <p:spPr>
          <a:xfrm>
            <a:off x="539640" y="1628640"/>
            <a:ext cx="8280360" cy="302436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ый бюджет  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Советом народных депу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евского сельского посел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д доходов и расходов на очере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771640" y="476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4c"/>
                </a:solidFill>
                <a:latin typeface="Arial"/>
              </a:rPr>
              <a:t>Местный бюд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3</cp:lastModifiedBy>
  <cp:lastPrinted>2013-10-03T09:30:52Z</cp:lastPrinted>
  <dcterms:modified xsi:type="dcterms:W3CDTF">2022-05-18T12:53:17Z</dcterms:modified>
  <cp:revision>174</cp:revision>
  <dc:subject/>
  <dc:title>Слайд 1</dc:title>
</cp:coreProperties>
</file>