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7503-3E76-4715-BD97-85EAFC63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5EC-83D6-4E60-BEE2-70774956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C96-3212-42E4-948C-251DFBE3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952-9726-4AA5-8E7A-0B9E5458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E57FB-17CC-434A-8FCB-8936046ABD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4857F-F369-4FF8-BFEF-701D6B2730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18643-BA3B-4F29-94F7-7BF6B0BC97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732D5-E5B5-41FE-B227-69A8F69AD9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E1C9E-F69B-4F1D-B2E2-37C3BE45DA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48F0C-702D-412A-8E19-B8B2BB404C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BD8C3-8E7F-43AF-96A7-D64FA16603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857-AADC-414A-B418-7A676321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C99B6-FA9C-4D94-9B3F-BA2D644CBD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68753-110E-4DA1-A7EF-A5903BFA5A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2B3AD-C6C4-465B-B40C-E309259562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317B0-3DB2-4486-B366-E19E3B4D59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A211F-C6F8-424C-A576-27D3E0CD08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3F5A44-36CD-43C5-B48C-2970665B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04478E-92A4-4149-A2BF-CAE2AD15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E7B970-A86C-4E0F-85FA-FFAEDD9C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3A859C-3638-4394-8CB6-C8B02458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56A360-F0ED-48EC-943C-58905B8E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786-657F-415D-8043-41EC194E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C30C61-B4AD-4042-A254-71C34B5A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0A6E98-141A-4A23-A3E1-297DE304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26A9DC-71B8-4AAA-9E34-79FC3F65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FA8F3E-6C4F-4819-B6FC-6A1D0F7F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C2396D-E140-42BE-8F94-0B26BABB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EF549-E280-4A37-BAC9-188A71CF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D88B2A-AE70-48E9-9E89-D440AE83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904-EA47-4398-A209-A155AB43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CBF-1B7B-4227-BFF4-5387B0A6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2148-7B22-45B4-A798-9A1827D8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4FA-0B58-4C2E-9790-FCA2FD3F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DDA-B5F5-408D-BD32-4ABEC6FA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2F1-0D94-44A7-B133-C9E34DE4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2FA1-AE8E-460E-BB21-10B1ED3CD4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>
              <a:gd name="textAreaLeft" fmla="*/ 0 w 8353440"/>
              <a:gd name="textAreaRight" fmla="*/ 8353800 w 83534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>
              <a:gd name="textAreaLeft" fmla="*/ 0 w 9189720"/>
              <a:gd name="textAreaRight" fmla="*/ 9190080 w 9189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>
              <a:gd name="textAreaLeft" fmla="*/ 0 w 9190080"/>
              <a:gd name="textAreaRight" fmla="*/ 9190440 w 919008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2F1A-1B5F-4293-BC90-3AB4FE561B70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E48E-60CB-42EF-B8E3-68F16FA79F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>
              <a:gd name="textAreaLeft" fmla="*/ 0 w 9182160"/>
              <a:gd name="textAreaRight" fmla="*/ 9182520 w 9182160"/>
              <a:gd name="textAreaTop" fmla="*/ 0 h 2892240"/>
              <a:gd name="textAreaBottom" fmla="*/ 2892240 h 2892240"/>
            </a:gdLst>
            <a:ahLst/>
            <a:rect l="textAreaLeft" t="textAreaTop" r="textAreaRight" b="textAreaBottom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>
              <a:gd name="textAreaLeft" fmla="*/ 0 w 9185400"/>
              <a:gd name="textAreaRight" fmla="*/ 9185400 w 91854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9200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Доходы местного  бюджет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09320" y="1526760"/>
            <a:ext cx="2849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3724200" y="3751200"/>
            <a:ext cx="2244960" cy="2098800"/>
          </a:xfrm>
          <a:prstGeom prst="rect">
            <a:avLst/>
          </a:prstGeom>
          <a:gradFill rotWithShape="0">
            <a:gsLst>
              <a:gs pos="0">
                <a:srgbClr val="ffffee"/>
              </a:gs>
              <a:gs pos="100000">
                <a:srgbClr val="fffff9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я 62 Бюджетного Кодекса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5969160" y="3751200"/>
            <a:ext cx="2347920" cy="2100240"/>
          </a:xfrm>
          <a:prstGeom prst="rect">
            <a:avLst/>
          </a:prstGeom>
          <a:gradFill rotWithShape="0">
            <a:gsLst>
              <a:gs pos="0">
                <a:srgbClr val="ffffee"/>
              </a:gs>
              <a:gs pos="100000">
                <a:srgbClr val="fffff9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лучаемые из других бюдж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>
            <a:off x="1417680" y="3751200"/>
            <a:ext cx="2287440" cy="2098800"/>
          </a:xfrm>
          <a:prstGeom prst="rect">
            <a:avLst/>
          </a:prstGeom>
          <a:gradFill rotWithShape="0">
            <a:gsLst>
              <a:gs pos="0">
                <a:srgbClr val="ffffee"/>
              </a:gs>
              <a:gs pos="100000">
                <a:srgbClr val="fffff9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ельный налог, налог на имущество физических лиц, налоговые доходы от федеральных налогов и сборов, в том числе налогов, предусмотренных специальными налоговыми режи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трелка вниз 6"/>
          <p:cNvSpPr/>
          <p:nvPr/>
        </p:nvSpPr>
        <p:spPr>
          <a:xfrm>
            <a:off x="2050920" y="2576520"/>
            <a:ext cx="93672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трелка вниз 8"/>
          <p:cNvSpPr/>
          <p:nvPr/>
        </p:nvSpPr>
        <p:spPr>
          <a:xfrm>
            <a:off x="4356000" y="2576520"/>
            <a:ext cx="86364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трелка вниз 9"/>
          <p:cNvSpPr/>
          <p:nvPr/>
        </p:nvSpPr>
        <p:spPr>
          <a:xfrm>
            <a:off x="6588000" y="2576520"/>
            <a:ext cx="86364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"/>
          <p:cNvSpPr/>
          <p:nvPr/>
        </p:nvSpPr>
        <p:spPr>
          <a:xfrm>
            <a:off x="6097680" y="1415880"/>
            <a:ext cx="1904760" cy="9144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Безвозмездные по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6"/>
          <p:cNvSpPr/>
          <p:nvPr/>
        </p:nvSpPr>
        <p:spPr>
          <a:xfrm>
            <a:off x="3894120" y="1415880"/>
            <a:ext cx="1905120" cy="9144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Неналоговые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7"/>
          <p:cNvSpPr/>
          <p:nvPr/>
        </p:nvSpPr>
        <p:spPr>
          <a:xfrm>
            <a:off x="1609560" y="1415880"/>
            <a:ext cx="1905120" cy="9144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311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ные налоги, установленные на территории Гришевского сельского пос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лог на имущество физических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емельный на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Структура налоговых и неналоговых доходов бюджета Гришевского сельского поселения  </a:t>
            </a:r>
            <a:br>
              <a:rPr sz="44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на 2022 год, тыс.руб.; %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Chart 1"/>
          <p:cNvGraphicFramePr/>
          <p:nvPr/>
        </p:nvGraphicFramePr>
        <p:xfrm>
          <a:off x="447840" y="1620720"/>
          <a:ext cx="8348400" cy="47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1620720"/>
                    <a:ext cx="834840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Структура налоговых и неналоговых доходов бюджета Гришевского сельского поселения  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на 2023 год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тыс.руб.; %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Object 9"/>
          <p:cNvGraphicFramePr/>
          <p:nvPr/>
        </p:nvGraphicFramePr>
        <p:xfrm>
          <a:off x="395280" y="1749600"/>
          <a:ext cx="8353440" cy="46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49600"/>
                    <a:ext cx="835344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Структура налоговых и неналоговых доходов бюджета Гришевского сельского поселения  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на 2024 год, тыс.руб.; %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Object 9"/>
          <p:cNvGraphicFramePr/>
          <p:nvPr/>
        </p:nvGraphicFramePr>
        <p:xfrm>
          <a:off x="328680" y="1630440"/>
          <a:ext cx="8491320" cy="45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630440"/>
                    <a:ext cx="849132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b-3</cp:lastModifiedBy>
  <cp:lastPrinted>2013-10-03T09:30:52Z</cp:lastPrinted>
  <dcterms:modified xsi:type="dcterms:W3CDTF">2022-05-18T12:53:46Z</dcterms:modified>
  <cp:revision>171</cp:revision>
  <dc:subject/>
  <dc:title>Слайд 1</dc:title>
</cp:coreProperties>
</file>