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8C5-2FAB-481F-AB9F-05C28670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A53-53C2-47CC-AB73-504C458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05B-AEB1-4961-BCD8-4D6EED74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4BF-BE02-4919-9673-157C0267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6314F-D30F-4D99-89DB-FC9129368B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81E18-C556-476F-8D2A-68A53C84CC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92321-4F5F-4BAE-AA34-D684C12AA5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E35F-2E58-456D-9F6D-05F0633685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57914-332D-4A17-9650-C534785A6E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ACC25-8013-4697-BC7D-C7034ECD30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A0005-4B37-4502-B91A-C955F1F3A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3FD-A7AB-4FBC-9F7F-18044082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F291A-17D9-4DCC-890C-8636CED21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8719E-5432-489F-A461-3DDFAA263C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B439-BBA5-41F7-9A60-6A65B0A7A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DF52F-61D7-4F31-8AC8-48DF6BA27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4B085-EAC8-4E96-A376-41BE81D9EE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0C5D7-1A21-480A-B0FB-B86EA2E1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0F96B-C2BC-43EF-B75E-982962EC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ED080A-BD13-4445-9921-5CCF9EC5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8CAAE-0DE3-4F78-A8A5-F0EEF7F1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DE6CB-48F8-4E07-A940-CB2B17E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A10-69A8-401B-96B8-2BD0AB2A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41EDC-582E-4D63-B900-9BDF97A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28B2C-8F30-4657-9FAD-D58C3677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864EA-211D-4306-A1D6-A16ADE5D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05C23-4FFE-4C60-88B7-BC5AD0D8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1FC29-33EB-4733-90E2-FB302539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01C14-FF8C-4BED-BFA7-178E348D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3D4BA-370F-42C0-B77D-C663665C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982-37BE-43B4-82B9-3892E5FD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2FE-9238-42B0-B9FE-1CE612F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997-B37C-4AAB-A8AB-DDF22B2C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FC6-C67C-4ACC-A70D-00ED067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FD0-329A-410D-8A98-0CA1EE5C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53E-5758-4F84-BE1A-62E6C37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6B6-5811-4B7C-9EF7-E7C6D443A4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B5D8-F20F-43F8-96D5-987BAF08B91C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8751-C5D7-49C1-8CA9-CACDECF7998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Основные цели бюджетной политики на 2022 год и плановый период 2023-2024 гг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1916280"/>
          <a:ext cx="8351640" cy="53323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11602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588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606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936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7588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Сбалансированность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d6"/>
              </a:gs>
              <a:gs pos="100000">
                <a:srgbClr val="f5f5eb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20"/>
          <p:cNvGrpSpPr/>
          <p:nvPr/>
        </p:nvGrpSpPr>
        <p:grpSpPr>
          <a:xfrm>
            <a:off x="3419640" y="3246480"/>
            <a:ext cx="2592360" cy="1360440"/>
            <a:chOff x="3419640" y="3246480"/>
            <a:chExt cx="2592360" cy="1360440"/>
          </a:xfrm>
        </p:grpSpPr>
        <p:sp>
          <p:nvSpPr>
            <p:cNvPr id="196" name="TextBox 21"/>
            <p:cNvSpPr/>
            <p:nvPr/>
          </p:nvSpPr>
          <p:spPr>
            <a:xfrm>
              <a:off x="3419640" y="3246480"/>
              <a:ext cx="25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 527,2          5 527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Левая фигурная скобка 22"/>
            <p:cNvSpPr/>
            <p:nvPr/>
          </p:nvSpPr>
          <p:spPr>
            <a:xfrm rot="16200000">
              <a:off x="4510080" y="347976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Скругленный прямоугольник 26"/>
          <p:cNvSpPr/>
          <p:nvPr/>
        </p:nvSpPr>
        <p:spPr>
          <a:xfrm>
            <a:off x="971640" y="5373720"/>
            <a:ext cx="65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e0c2"/>
              </a:gs>
              <a:gs pos="50000">
                <a:srgbClr val="ffffe1"/>
              </a:gs>
              <a:gs pos="100000">
                <a:srgbClr val="e0e0c2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Бюджет сбалансирован без дефицита и про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12:03:48Z</dcterms:modified>
  <cp:revision>139</cp:revision>
  <dc:subject/>
  <dc:title>Слайд 1</dc:title>
</cp:coreProperties>
</file>