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F34-1281-4935-BEF9-BDF6AD56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36F-8527-4302-8A5B-6283E2A6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1E9-0C9B-4FD5-A4E7-78D3401F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1EF-D6ED-440C-B436-41F5F339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6E1F6-CFB2-4819-903B-1745F30CFE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3B87E-9CB3-4977-B651-9E8FEDBB84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8EBB2-DD57-4A08-9C8C-6DEB945207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6882B-59F7-498D-95E3-1E8C72D618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24B8B-0EEF-4B59-974D-F688438168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35D45-1564-4C38-A65D-A715B4FE59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C4E74-328C-4D4C-A1B9-CCD7E41D3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6D5-1CF2-418C-A26B-865C3656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D6740-EB98-4AC0-B5D5-C12469E22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F4A6C-B478-4837-96C3-3D24F5CCCB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0984A-FAE0-478F-9587-60640BB0B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44041-85C6-47E8-8568-930B19E783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0B7D8-C7BA-4B57-8FA2-A261EBDEEC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AD658-1D8C-4502-90F6-2D9C8A77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92BFB-07BD-4109-A24C-C381C81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9B0EE-A0D6-47D2-AC03-712D8CD2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4A6F1A-E57A-4007-8941-D0B85C3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2F7AE-988E-4978-8515-BFB670A1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B42-9502-463D-BC4A-BBE32FA0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F4A9A4-7BB4-47D2-A856-4A20416F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1CEE9-611E-43C6-9C53-6407A72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1268E5-392B-4776-AD91-9E199B9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A9E063-E760-4254-90CD-E33A7E30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F5648-8349-447B-9AB2-53C16556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AA5FC-587B-4CE9-9BFB-7AA18D22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77B07-02AC-4671-8403-917BAD52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E30-0A2A-4F0B-A4CC-16E248AF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3FC-6652-45E6-A2AC-D6B1407A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6CD-EB61-4C5D-9225-0E04819F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A37-EAAA-4FE3-95AA-B5B4E02C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CA6-2FC8-4EE7-96C7-4777F4A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BCD-702E-44CF-9809-B4F3006C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C405-9A1A-4E0C-AD14-3BC628F066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2887-9016-448E-A2F3-4735E7336EB6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9BB-CECF-47A6-9123-7F045708D2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6867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33"/>
                </a:solidFill>
                <a:latin typeface="Times New Roman"/>
              </a:rPr>
              <a:t>Основные цели бюджетной политики на 2021 год и плановый период 2022-2023 гг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4360" y="1916280"/>
          <a:ext cx="8351640" cy="53323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11602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588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606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936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7588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33"/>
                </a:solidFill>
                <a:latin typeface="Times New Roman"/>
              </a:rPr>
              <a:t>Сбалансированность бюдж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d6"/>
              </a:gs>
              <a:gs pos="100000">
                <a:srgbClr val="f5f5eb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Arial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20"/>
          <p:cNvGrpSpPr/>
          <p:nvPr/>
        </p:nvGrpSpPr>
        <p:grpSpPr>
          <a:xfrm>
            <a:off x="3419640" y="3246480"/>
            <a:ext cx="2592360" cy="1360440"/>
            <a:chOff x="3419640" y="3246480"/>
            <a:chExt cx="2592360" cy="1360440"/>
          </a:xfrm>
        </p:grpSpPr>
        <p:sp>
          <p:nvSpPr>
            <p:cNvPr id="196" name="TextBox 21"/>
            <p:cNvSpPr/>
            <p:nvPr/>
          </p:nvSpPr>
          <p:spPr>
            <a:xfrm>
              <a:off x="3419640" y="3246480"/>
              <a:ext cx="25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0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401,7          7401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Левая фигурная скобка 22"/>
            <p:cNvSpPr/>
            <p:nvPr/>
          </p:nvSpPr>
          <p:spPr>
            <a:xfrm rot="16200000">
              <a:off x="4510080" y="347976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Скругленный прямоугольник 26"/>
          <p:cNvSpPr/>
          <p:nvPr/>
        </p:nvSpPr>
        <p:spPr>
          <a:xfrm>
            <a:off x="971640" y="5373720"/>
            <a:ext cx="655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e0c2"/>
              </a:gs>
              <a:gs pos="50000">
                <a:srgbClr val="ffffe1"/>
              </a:gs>
              <a:gs pos="100000">
                <a:srgbClr val="e0e0c2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Arial"/>
              </a:rPr>
              <a:t>Бюджет сбалансирован без дефицита и профи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e1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e1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3</cp:lastModifiedBy>
  <cp:lastPrinted>2013-10-03T09:30:52Z</cp:lastPrinted>
  <dcterms:modified xsi:type="dcterms:W3CDTF">2022-05-18T07:35:03Z</dcterms:modified>
  <cp:revision>137</cp:revision>
  <dc:subject/>
  <dc:title>Слайд 1</dc:title>
</cp:coreProperties>
</file>