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A5E-9B23-4A80-94CB-D62DD140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E1F-7513-433B-BDB0-67587734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005-7348-49E4-A5E5-4B00D0B8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347-FD51-47F5-B944-56496993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62071-526D-49D7-B6EB-C27E154DEA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7010F-BA33-4E8B-BBE1-0F682E8D47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5B496-18C6-4862-A342-F164CA8560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05C1B-C130-4216-B962-F1731AB94F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6859F-0C79-420C-B4F0-005CDAED6B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1C1A3-9B8F-411C-8F21-E8E8125ECC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5B6D2-5105-4DBE-88F6-41ED99394D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B8C-2E74-4153-B60F-F7954ED4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0DA88-D957-4857-A811-5E47F1109A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BBF81-7E84-43D6-B636-C6205752BF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F68EE-4E2A-4B72-A6C8-A2496BA4DC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C367A-ACE3-4602-82CE-EC23D26295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316BC-0EA8-42B9-8DB2-F669446EFC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1B225-5340-45DC-9911-87938A25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01ADDE-9BB2-4952-8089-35AE6CFC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C400B-899E-4DBC-BE59-8BDD0A2B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B9A252-B9DA-460A-B707-5D9415BB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A85EE-5BA9-4BF2-BBEB-64813AC3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C38-4057-4599-8818-0AF163FC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84464B-9277-4608-8A2A-6A9D8239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AB1197-56AE-4710-A283-0DBC985D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72A5C9-C46D-4208-A430-C685DAA0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205B97-1366-4A4D-8DC5-90474D7B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D6FEE-1C41-479A-8CC8-89A974E6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9AB5A4-642B-4648-ABF8-48B00D97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5349D-00C7-42D9-AC71-174756D6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2B9-D5B6-4722-872F-FC491C16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B1C-FA19-45DB-ADFD-8EA7B851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8DD-0CD3-40D2-81C0-F03420BB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F83-2230-4185-AE51-4B5FE19C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8C8-FEF8-4A77-83C7-D8E6D12C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11C-8416-457B-97B0-06411177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924-D263-4583-8092-26B2D5E93E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A674-31C4-4319-9EA0-4F5A6F85ADD1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53FD-0ABE-45BC-B59E-D36C4D406B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33"/>
                </a:solidFill>
                <a:latin typeface="Times New Roman"/>
              </a:rPr>
              <a:t>Расходы бюдже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1128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ыплачиваемые из бюджета денежны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ъём расход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тся исходя из объёма средств, необходимых для исполнения установленных законодательством полномочий органов местного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местного бюджет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фициру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разделам и подраздел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униципальным программам по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Гришевского сельского поселения на 2021 год, тыс.руб.; %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6" name="Object 5"/>
          <p:cNvGraphicFramePr/>
          <p:nvPr/>
        </p:nvGraphicFramePr>
        <p:xfrm>
          <a:off x="457200" y="1628640"/>
          <a:ext cx="816300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28640"/>
                    <a:ext cx="8163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Гришевского  сельского поселения на 2022 год, тыс.руб.; %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438120" y="1695600"/>
          <a:ext cx="8210520" cy="433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695600"/>
                    <a:ext cx="821052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Гришевского сельского поселения на 2023 год, тыс.руб.; %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438120" y="1847880"/>
          <a:ext cx="822024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847880"/>
                    <a:ext cx="82202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60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0033"/>
                </a:solidFill>
                <a:latin typeface="Times New Roman"/>
              </a:rPr>
              <a:t>Проект бюджета Гришевского сельского поселения формируется                             в рамках 1 муниципальной программы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2195640" y="1628640"/>
            <a:ext cx="4897440" cy="1295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ниципальная программа на 2019 – 2024 го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203640" y="6165720"/>
            <a:ext cx="3097080" cy="30708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,0 % расходов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2857680" y="3500280"/>
            <a:ext cx="3571560" cy="1357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админист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шевског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Подгорен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ипальн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 flipV="1" rot="5420400">
            <a:off x="4642560" y="2347560"/>
            <a:ext cx="358920" cy="7129440"/>
          </a:xfrm>
          <a:custGeom>
            <a:avLst/>
            <a:gdLst>
              <a:gd name="textAreaLeft" fmla="*/ 0 w 358920"/>
              <a:gd name="textAreaRight" fmla="*/ 359280 w 358920"/>
              <a:gd name="textAreaTop" fmla="*/ 360 h 7129440"/>
              <a:gd name="textAreaBottom" fmla="*/ 7130160 h 712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7"/>
          <p:cNvSpPr/>
          <p:nvPr/>
        </p:nvSpPr>
        <p:spPr>
          <a:xfrm>
            <a:off x="4714920" y="30718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9"/>
          <p:cNvSpPr/>
          <p:nvPr/>
        </p:nvSpPr>
        <p:spPr>
          <a:xfrm>
            <a:off x="4140360" y="5013360"/>
            <a:ext cx="1511280" cy="52020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9 941,0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b-3</cp:lastModifiedBy>
  <cp:lastPrinted>2013-10-03T09:30:52Z</cp:lastPrinted>
  <dcterms:modified xsi:type="dcterms:W3CDTF">2022-05-18T08:53:13Z</dcterms:modified>
  <cp:revision>150</cp:revision>
  <dc:subject/>
  <dc:title>Слайд 1</dc:title>
</cp:coreProperties>
</file>