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640-E623-44B7-97B7-BA6C8F7A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7C7-4497-452B-9D40-C6EB4099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9A8-0CE4-4B2B-8510-5FFE5207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BA0-5C0E-447A-BA0D-EDF4CC49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16240-2E06-4B57-8F42-828D56F3CB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B058A-0F3B-425F-AF91-DD38F8D07D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6438C-9268-4353-B3E7-A63C3C7F57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D72AF-A3D3-4360-A927-A7B15BACDB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2D9A8-A5C0-4860-8581-961BB9E53B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49176-5CBD-4F66-8259-B62C32860C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A9B6A-5FD3-4C82-A365-F865EFD9B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9E9-5300-4250-BC45-C95D8931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D91CA-E400-4882-BC65-CE50C3AB44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41C9E-2AC2-4B39-B33B-73D2F47659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90116-E434-47BF-8189-155D3B1757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CEC40-67A5-400E-BAF8-D1CA542E65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72048-56A3-44D4-8725-199049BBAF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7A0DF-C64F-4F00-AE56-ED72E838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35688-5571-463E-AD47-9FAC5AD7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B97077-6B81-4698-8FB2-B79FE329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08B1F-207D-470F-82C7-EBB56A53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C8CCE7-878F-4EFC-ACDC-E9651461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F74-23B1-42B1-9F18-12C64F7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8B666-C241-4888-80D0-CFE87118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EA816B-74D1-4827-80B1-78F9C24D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9C702-A58D-494C-A8EA-6EFE0A51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DAB024-73EB-4184-A2C9-EA7FB286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3BA24E-6418-4E1E-8A0F-A6BAE60F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F2733-0441-49D6-A858-EFABF330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D40B7-8B16-4E02-86AF-643764D9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390-148F-4E8F-A71D-43BB69DE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266-1BB8-4FC2-8573-4209D3AF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AB1-22D6-4FFA-9D4A-680BC8AD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088-C9EB-41FE-9D26-FF466AA3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88A-AE46-453A-9D19-A66F66E5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8D6-F8C7-436C-BC61-153AB800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0B3C-60E6-4EBB-BEF5-BF24918963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1D27-7940-42D7-86EE-289F302B8E97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CBFD-BCCD-44D8-A6FD-5512419C7C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004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Доходы местного  бюджет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09320" y="1526760"/>
            <a:ext cx="2849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3724200" y="3751200"/>
            <a:ext cx="2244960" cy="2098800"/>
          </a:xfrm>
          <a:prstGeom prst="rect">
            <a:avLst/>
          </a:prstGeom>
          <a:gradFill rotWithShape="0">
            <a:gsLst>
              <a:gs pos="0">
                <a:srgbClr val="ffff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я 62 Бюджетного Кодекса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5969160" y="3751200"/>
            <a:ext cx="2347920" cy="2100240"/>
          </a:xfrm>
          <a:prstGeom prst="rect">
            <a:avLst/>
          </a:prstGeom>
          <a:gradFill rotWithShape="0">
            <a:gsLst>
              <a:gs pos="0">
                <a:srgbClr val="ffff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лучаемые из других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1417680" y="3751200"/>
            <a:ext cx="2287440" cy="2098800"/>
          </a:xfrm>
          <a:prstGeom prst="rect">
            <a:avLst/>
          </a:prstGeom>
          <a:gradFill rotWithShape="0">
            <a:gsLst>
              <a:gs pos="0">
                <a:srgbClr val="ffff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ьный налог, налог на имущество физических лиц, налоговые доходы от федеральных налогов и сборов, в том числе налогов, предусмотренных специальными налоговыми режи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трелка вниз 6"/>
          <p:cNvSpPr/>
          <p:nvPr/>
        </p:nvSpPr>
        <p:spPr>
          <a:xfrm>
            <a:off x="2050920" y="2576520"/>
            <a:ext cx="93672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трелка вниз 8"/>
          <p:cNvSpPr/>
          <p:nvPr/>
        </p:nvSpPr>
        <p:spPr>
          <a:xfrm>
            <a:off x="4356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трелка вниз 9"/>
          <p:cNvSpPr/>
          <p:nvPr/>
        </p:nvSpPr>
        <p:spPr>
          <a:xfrm>
            <a:off x="6588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6097680" y="1415880"/>
            <a:ext cx="1904760" cy="9144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3894120" y="1415880"/>
            <a:ext cx="1905120" cy="9144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7"/>
          <p:cNvSpPr/>
          <p:nvPr/>
        </p:nvSpPr>
        <p:spPr>
          <a:xfrm>
            <a:off x="1609560" y="1415880"/>
            <a:ext cx="1905120" cy="9144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311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ые налоги, установленные на территории Гришевского сельского пос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лог на имущество физических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емельный на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труктура налоговых и неналоговых доходов бюджета Гришевского сельского поселения  </a:t>
            </a:r>
            <a:br>
              <a:rPr sz="44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 2021 год, тыс.руб.; %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Chart 1"/>
          <p:cNvGraphicFramePr/>
          <p:nvPr/>
        </p:nvGraphicFramePr>
        <p:xfrm>
          <a:off x="395280" y="1620720"/>
          <a:ext cx="8280360" cy="49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0720"/>
                    <a:ext cx="828036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труктура налоговых и неналоговых доходов бюджета Гришевского сельского поселения  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 2022 год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тыс.руб.; %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Object 9"/>
          <p:cNvGraphicFramePr/>
          <p:nvPr/>
        </p:nvGraphicFramePr>
        <p:xfrm>
          <a:off x="324000" y="1749600"/>
          <a:ext cx="8353440" cy="47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9600"/>
                    <a:ext cx="83534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труктура налоговых и неналоговых доходов бюджета Гришевского сельского поселения  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 2023 год, тыс.руб.; %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Object 9"/>
          <p:cNvGraphicFramePr/>
          <p:nvPr/>
        </p:nvGraphicFramePr>
        <p:xfrm>
          <a:off x="328680" y="1630440"/>
          <a:ext cx="8346960" cy="482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630440"/>
                    <a:ext cx="834696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b-3</cp:lastModifiedBy>
  <cp:lastPrinted>2013-10-03T09:30:52Z</cp:lastPrinted>
  <dcterms:modified xsi:type="dcterms:W3CDTF">2022-05-18T08:54:14Z</dcterms:modified>
  <cp:revision>174</cp:revision>
  <dc:subject/>
  <dc:title>Слайд 1</dc:title>
</cp:coreProperties>
</file>