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D265-66CD-4981-AD9E-B5D792395D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377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FCC085-6C78-46E6-B6DD-E4B3E8E21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7000" y="7365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692240"/>
            <a:ext cx="54324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C86D-967F-4913-A005-093B03F77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4D9-3431-4212-AAE8-C74536F8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CCC-164E-4B97-8A0E-398CDE26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BF0-32FB-47BA-A18A-44EEA419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4A5-BAD9-48C0-80E9-E917D172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A50D6-1318-4048-B7F0-8D4AAC21BF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C7529-2022-4EA9-87A1-C85BCD8183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7B47-C42A-417C-B45E-88529EC22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5B94F-1E3B-449C-B977-A1F82EA435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0E82E-F630-4494-B677-DDBA76D37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41BC-6AFA-494F-A56F-F1835A0E6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675C-733E-43BB-9C6D-5D69B9152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181-E415-4FCE-9308-F73A546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E35DE-A172-44B7-AB27-5701234C37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4CEF2-91D9-4E1B-8A9B-532C10A87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5DA03-ED10-4401-ADC6-10EE19347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BBE8F-0DA2-4032-9F20-B8C673DC3F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D605-3D86-435F-84AF-357584048E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1BC78C-AD4F-44D5-B4B7-36FB7CE3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11E0E0-7679-4C1A-BF00-21CC7EA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23206-CEE1-427E-82C5-615E403A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387BF-615C-470B-A55A-FDC5EA57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FC741-BD24-42CF-B575-195FA76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589-5C61-4C2F-B546-115940C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2D88D-0B53-4A7C-AA3A-08F76B42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D2366-3DA6-4BDC-9715-EF00D32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D196F-3E7B-40E2-AD19-E66380D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28852-71C2-4494-B194-EB61E2F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A75E4-6BC7-4E85-9587-28AFA602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09FCD-E837-40EC-A9BE-6F0DC935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E405B-5D3D-4739-A6D0-111D51C3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D5D-4E51-4BEB-BCBD-6910C66A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678-BD62-48B5-A181-A12C795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91B-4BF8-4113-AF8E-377D15F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0E3-3598-49AF-BAAD-0C36802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F8E-93CE-4C01-8DFF-02639D5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3D5-05D3-4444-9ACB-6DA5FB5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A80B-589B-44A7-B83B-7993A43282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E8E-DC83-4CFD-9E0D-2041C4C1CB5A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69FB-F6D1-45A4-BD10-4051DA6092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7548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Times New Roman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603440" y="3214800"/>
            <a:ext cx="6848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К БЮДЖ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ГРИШЕВСКОГО СЕЛЬСКОГО ПО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НА 2021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И ПЛАНОВЫЙ ПЕРИОД 2022-2023 Г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71360" y="1071720"/>
            <a:ext cx="77770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 для граждан разрабатывается в целях ознакомления граждан с основными положениями проекта решения о бюджете Гришевского сельского поселения на 2021 год и плановый период 2022-2023 гг в доступной форме для широкого круга заинтересованных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348000" y="1989000"/>
            <a:ext cx="4824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Опыт - 7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Варваровка -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горьевка -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шевка -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Кошарное -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Новоалександровка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Репьев -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априно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ерпанки -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тепановка - 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Терновое - 1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71640" y="5013360"/>
            <a:ext cx="468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788000" y="1916280"/>
            <a:ext cx="43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332000" y="1806840"/>
            <a:ext cx="6769080" cy="5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селение  1373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6836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ришевское сельское поселение 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на 01.01.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Этапы составления и утверждения бюджета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го поселения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Схема 3" descr=""/>
          <p:cNvPicPr/>
          <p:nvPr/>
        </p:nvPicPr>
        <p:blipFill>
          <a:blip r:embed="rId1"/>
          <a:stretch/>
        </p:blipFill>
        <p:spPr>
          <a:xfrm>
            <a:off x="652320" y="1407960"/>
            <a:ext cx="8406000" cy="5357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3121200" y="1773360"/>
            <a:ext cx="5903640" cy="459000"/>
          </a:xfrm>
          <a:prstGeom prst="rect">
            <a:avLst/>
          </a:prstGeom>
          <a:solidFill>
            <a:srgbClr val="f5f5eb"/>
          </a:solidFill>
          <a:ln w="38160">
            <a:solidFill>
              <a:srgbClr val="aeae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Гришевского сельского поселения  начинается за 6 месяцев до начала очередного финансового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112920" y="3357720"/>
            <a:ext cx="5904000" cy="12657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Гришевского сельского поселения глава   поселения  вносит на рассмотрение Совета народных депутатов Гришевского  сельского поселения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 Гришевского сельского поселения  проводятся публичные слушания. В слушаниях участвуют граждане, проживающие в Гришевском сельском поселении, а также представители организаций, осуществляющих деятельность на территории Гришевского сельского поселени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119400" y="4929120"/>
            <a:ext cx="5905440" cy="1812600"/>
          </a:xfrm>
          <a:prstGeom prst="rect">
            <a:avLst/>
          </a:prstGeom>
          <a:solidFill>
            <a:srgbClr val="ffc7c7"/>
          </a:solidFill>
          <a:ln w="38160">
            <a:solidFill>
              <a:srgbClr val="e7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бюджета Гришевского сельского поселения утверждается Советом народных депутатов Гришевского сельского поселения в форме решения Совета народных депутатов Гришевского сельского по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ое  Советом народных депутатов Гришевского сельского поселения решение о проекте бюджете Гришевского сельского поселения подлежит обнародованию путем опубликования его в  вестнике муниципальных правовых актов Гришевского сельского поселения Подгоренского муниципального района Воронеж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кументы, на основании которых составляется проект бюджет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го поселения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1554120" y="206064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1547640" y="3151080"/>
            <a:ext cx="6704280" cy="91692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Губернатора области, в котором определяются основные направления бюджетной 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547640" y="4292640"/>
            <a:ext cx="6697800" cy="980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Подгоренского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Гришевского сельского 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547640" y="544500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ая программа Грише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гноз социально - экономического развития Гришевского сельского поселе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3500280" y="3000240"/>
            <a:ext cx="5597640" cy="1459800"/>
          </a:xfrm>
          <a:prstGeom prst="roundRect">
            <a:avLst>
              <a:gd name="adj" fmla="val 42380"/>
            </a:avLst>
          </a:prstGeom>
          <a:gradFill rotWithShape="0">
            <a:gsLst>
              <a:gs pos="0">
                <a:srgbClr val="ffd1ff"/>
              </a:gs>
              <a:gs pos="100000">
                <a:srgbClr val="f7f7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88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направления и ожидаемые результаты социально-экономического развития Гришевского сельского поселения   в среднесрочной персп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576360" y="1989000"/>
            <a:ext cx="2663640" cy="37436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743640"/>
              <a:gd name="textAreaBottom" fmla="*/ 3613680 h 3743640"/>
            </a:gdLst>
            <a:ahLst/>
            <a:rect l="textAreaLeft" t="textAreaTop" r="textAreaRight" b="textAreaBottom"/>
            <a:pathLst>
              <a:path w="21600" h="30357">
                <a:moveTo>
                  <a:pt x="3600" y="0"/>
                </a:moveTo>
                <a:arcTo wR="3600" hR="3600" stAng="16200000" swAng="-5400000"/>
                <a:lnTo>
                  <a:pt x="0" y="26757"/>
                </a:lnTo>
                <a:arcTo wR="3600" hR="3600" stAng="10800000" swAng="-5400000"/>
                <a:lnTo>
                  <a:pt x="18000" y="30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 социально-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ишевского сельского посе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 2021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 на плановый период до 20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6"/>
          <p:cNvSpPr/>
          <p:nvPr/>
        </p:nvSpPr>
        <p:spPr>
          <a:xfrm>
            <a:off x="539640" y="1628640"/>
            <a:ext cx="8280360" cy="302436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ый бюджет  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Советом народных депу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евского сельского посел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 доходов и расходов на очере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7716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4c"/>
                </a:solidFill>
                <a:latin typeface="Arial"/>
              </a:rPr>
              <a:t>Местный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08:09:53Z</dcterms:modified>
  <cp:revision>173</cp:revision>
  <dc:subject/>
  <dc:title>Слайд 1</dc:title>
</cp:coreProperties>
</file>