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35B3-CAB8-4907-A6E0-7BB37C3F3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548F-80DA-4DE3-8C94-0CBD96A57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B3DD-0E2F-4191-9DD3-973AF326C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0074-99B2-4FA3-8D96-0E58D68CD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D26263-F01C-400A-BB26-367E45182ED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71EE47-291E-46C6-B9D4-067C895CD0D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B0A4F2-5C15-4ED0-8B37-F97E7FDB7ED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3E5B48-A1E1-462C-BE7B-06F6C02EC90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4827A7-BB16-4B28-869C-585CFA467DD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C4B23D-D938-4B88-9177-4BBFADF0899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565F94-3009-4049-9053-873F3B8D28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C055-1252-4502-84AC-4CC103B4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0AC354-39A8-4AA6-98F6-75740D9CBF7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3A4E29-380A-42DD-894E-C85248A093B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EE268C-1A10-4A4A-A0FC-F36AD37B070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633C1E-D754-4DA1-9959-85A116C2D3B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22DC7E-5CB9-4969-809B-D399186B1F3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552F7C-62EB-468D-9F1E-F00D427CB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37A3F4-9DCB-4635-808D-E2D362CA6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70110B-DEBC-4552-A779-A2B4CDBE6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42D0DE-79E6-4E8E-B8AF-4931AE6A0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2132B4-FC4F-4964-8CE9-99512DFE0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A3EC-674C-4CAC-8118-F83B644DD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F11EB4-4115-4300-A260-4B8DB3034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129975-24D5-4726-AF86-1A57F8FA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C5E1B2-5859-4157-B2C9-FF988CAE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A01AE1-A787-47AB-BB17-C41F69D3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89A205-EAC9-4D9F-897C-122DDE72A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9D7AA1-10E1-4D49-A227-CBA054485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C62956-B4AA-44DB-9F64-B5F986F4C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777D-AFDF-4D1C-8EAD-EEE3E332D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CE05-BD2E-4FFC-9863-24AA7C597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7D95-3D61-4BB6-9C34-24E1D9033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60EE-F1A6-46A3-B13E-3DD11557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941D-5602-453C-A4D7-C521CB0D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6C58-0BA7-451C-B01E-FC85BA72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FFBF3-94DB-45A3-A976-74238E0ED90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aa8bc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3"/>
          <p:cNvSpPr/>
          <p:nvPr/>
        </p:nvSpPr>
        <p:spPr>
          <a:xfrm>
            <a:off x="-36360" y="-27000"/>
            <a:ext cx="8353440" cy="6869160"/>
          </a:xfrm>
          <a:custGeom>
            <a:avLst/>
            <a:gdLst/>
            <a:ahLst/>
            <a:rect l="l" t="t" r="r" b="b"/>
            <a:pathLst>
              <a:path w="5381" h="4327">
                <a:moveTo>
                  <a:pt x="4017" y="17"/>
                </a:moveTo>
                <a:cubicBezTo>
                  <a:pt x="4909" y="388"/>
                  <a:pt x="5372" y="1508"/>
                  <a:pt x="5351" y="2225"/>
                </a:cubicBezTo>
                <a:cubicBezTo>
                  <a:pt x="5381" y="2951"/>
                  <a:pt x="4783" y="3968"/>
                  <a:pt x="3892" y="4318"/>
                </a:cubicBezTo>
                <a:lnTo>
                  <a:pt x="4" y="4327"/>
                </a:lnTo>
                <a:lnTo>
                  <a:pt x="0" y="0"/>
                </a:lnTo>
                <a:lnTo>
                  <a:pt x="4017" y="17"/>
                </a:lnTo>
                <a:close/>
              </a:path>
            </a:pathLst>
          </a:custGeom>
          <a:gradFill rotWithShape="0">
            <a:gsLst>
              <a:gs pos="0">
                <a:srgbClr val="bdd3dd"/>
              </a:gs>
              <a:gs pos="50000">
                <a:srgbClr val="e4edf1"/>
              </a:gs>
              <a:gs pos="100000">
                <a:srgbClr val="bdd3dd"/>
              </a:gs>
            </a:gsLst>
            <a:lin ang="5400000"/>
          </a:gradFill>
          <a:ln w="0">
            <a:noFill/>
          </a:ln>
          <a:effectLst>
            <a:outerShdw dist="80486" dir="1110959" blurRad="0" rotWithShape="0">
              <a:srgbClr val="8ea8a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4"/>
          <p:cNvSpPr/>
          <p:nvPr/>
        </p:nvSpPr>
        <p:spPr>
          <a:xfrm>
            <a:off x="-36360" y="4019400"/>
            <a:ext cx="9189720" cy="2951280"/>
          </a:xfrm>
          <a:custGeom>
            <a:avLst/>
            <a:gdLst/>
            <a:ahLst/>
            <a:rect l="l" t="t" r="r" b="b"/>
            <a:pathLst>
              <a:path w="6272" h="1859">
                <a:moveTo>
                  <a:pt x="6252" y="0"/>
                </a:moveTo>
                <a:cubicBezTo>
                  <a:pt x="5993" y="312"/>
                  <a:pt x="5343" y="907"/>
                  <a:pt x="4292" y="1159"/>
                </a:cubicBezTo>
                <a:cubicBezTo>
                  <a:pt x="3246" y="1409"/>
                  <a:pt x="1125" y="1500"/>
                  <a:pt x="16" y="1464"/>
                </a:cubicBezTo>
                <a:cubicBezTo>
                  <a:pt x="16" y="1600"/>
                  <a:pt x="0" y="1859"/>
                  <a:pt x="2" y="1831"/>
                </a:cubicBezTo>
                <a:cubicBezTo>
                  <a:pt x="2" y="1831"/>
                  <a:pt x="3103" y="1790"/>
                  <a:pt x="6272" y="1808"/>
                </a:cubicBezTo>
                <a:cubicBezTo>
                  <a:pt x="6262" y="953"/>
                  <a:pt x="6256" y="379"/>
                  <a:pt x="6252" y="0"/>
                </a:cubicBezTo>
                <a:close/>
              </a:path>
            </a:pathLst>
          </a:custGeom>
          <a:solidFill>
            <a:srgbClr val="a6c4d2"/>
          </a:solidFill>
          <a:ln w="0">
            <a:noFill/>
          </a:ln>
          <a:effectLst>
            <a:outerShdw dist="107932" dir="13500000" blurRad="0" rotWithShape="0">
              <a:srgbClr val="8ea8a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5"/>
          <p:cNvSpPr/>
          <p:nvPr/>
        </p:nvSpPr>
        <p:spPr>
          <a:xfrm>
            <a:off x="-47520" y="-33480"/>
            <a:ext cx="9190080" cy="1230480"/>
          </a:xfrm>
          <a:custGeom>
            <a:avLst/>
            <a:gdLst/>
            <a:ahLst/>
            <a:rect l="l" t="t" r="r" b="b"/>
            <a:pathLst>
              <a:path w="6272" h="775">
                <a:moveTo>
                  <a:pt x="5" y="775"/>
                </a:moveTo>
                <a:cubicBezTo>
                  <a:pt x="263" y="647"/>
                  <a:pt x="1003" y="398"/>
                  <a:pt x="2054" y="295"/>
                </a:cubicBezTo>
                <a:cubicBezTo>
                  <a:pt x="3102" y="192"/>
                  <a:pt x="5151" y="145"/>
                  <a:pt x="6260" y="160"/>
                </a:cubicBezTo>
                <a:cubicBezTo>
                  <a:pt x="6260" y="104"/>
                  <a:pt x="6272" y="0"/>
                  <a:pt x="6270" y="11"/>
                </a:cubicBezTo>
                <a:cubicBezTo>
                  <a:pt x="6270" y="11"/>
                  <a:pt x="3178" y="11"/>
                  <a:pt x="8" y="4"/>
                </a:cubicBezTo>
                <a:cubicBezTo>
                  <a:pt x="17" y="355"/>
                  <a:pt x="0" y="619"/>
                  <a:pt x="5" y="775"/>
                </a:cubicBezTo>
                <a:close/>
              </a:path>
            </a:pathLst>
          </a:custGeom>
          <a:solidFill>
            <a:srgbClr val="a6c4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55471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c628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B41A5-5A26-43DF-9BE2-A105CBA2AE7E}" type="slidenum">
              <a:rPr b="0" lang="ru-RU" sz="1400" spc="-1" strike="noStrike">
                <a:solidFill>
                  <a:srgbClr val="2c628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97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5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6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021F0-452D-47A1-A237-B296CDC0A45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0" descr="731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0912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aa8bc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4"/>
          <p:cNvSpPr/>
          <p:nvPr/>
        </p:nvSpPr>
        <p:spPr>
          <a:xfrm>
            <a:off x="-12600" y="4010040"/>
            <a:ext cx="9182160" cy="2892240"/>
          </a:xfrm>
          <a:custGeom>
            <a:avLst/>
            <a:gdLst/>
            <a:ahLst/>
            <a:rect l="l" t="t" r="r" b="b"/>
            <a:pathLst>
              <a:path w="5784" h="1822">
                <a:moveTo>
                  <a:pt x="5760" y="0"/>
                </a:moveTo>
                <a:cubicBezTo>
                  <a:pt x="5521" y="312"/>
                  <a:pt x="4917" y="913"/>
                  <a:pt x="3947" y="1165"/>
                </a:cubicBezTo>
                <a:cubicBezTo>
                  <a:pt x="2981" y="1415"/>
                  <a:pt x="1023" y="1506"/>
                  <a:pt x="0" y="1470"/>
                </a:cubicBezTo>
                <a:cubicBezTo>
                  <a:pt x="0" y="1606"/>
                  <a:pt x="14" y="1822"/>
                  <a:pt x="16" y="1794"/>
                </a:cubicBezTo>
                <a:cubicBezTo>
                  <a:pt x="1818" y="1819"/>
                  <a:pt x="4180" y="1803"/>
                  <a:pt x="5784" y="1802"/>
                </a:cubicBezTo>
                <a:cubicBezTo>
                  <a:pt x="5776" y="989"/>
                  <a:pt x="5763" y="370"/>
                  <a:pt x="5760" y="0"/>
                </a:cubicBezTo>
                <a:close/>
              </a:path>
            </a:pathLst>
          </a:custGeom>
          <a:gradFill rotWithShape="0">
            <a:gsLst>
              <a:gs pos="0">
                <a:srgbClr val="6197af">
                  <a:alpha val="58039"/>
                </a:srgbClr>
              </a:gs>
              <a:gs pos="100000">
                <a:srgbClr val="1a708e"/>
              </a:gs>
            </a:gsLst>
            <a:lin ang="0"/>
          </a:gradFill>
          <a:ln w="0">
            <a:noFill/>
          </a:ln>
          <a:effectLst>
            <a:outerShdw dist="107932" dir="13500000" blurRad="0" rotWithShape="0">
              <a:srgbClr val="c2d7e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5"/>
          <p:cNvSpPr/>
          <p:nvPr/>
        </p:nvSpPr>
        <p:spPr>
          <a:xfrm>
            <a:off x="-25560" y="-39600"/>
            <a:ext cx="9185400" cy="2181240"/>
          </a:xfrm>
          <a:custGeom>
            <a:avLst/>
            <a:gdLst/>
            <a:ahLst/>
            <a:rect l="l" t="t" r="r" b="b"/>
            <a:pathLst>
              <a:path w="5786" h="1374">
                <a:moveTo>
                  <a:pt x="8" y="1374"/>
                </a:moveTo>
                <a:cubicBezTo>
                  <a:pt x="246" y="1148"/>
                  <a:pt x="942" y="721"/>
                  <a:pt x="1912" y="538"/>
                </a:cubicBezTo>
                <a:cubicBezTo>
                  <a:pt x="2879" y="356"/>
                  <a:pt x="4761" y="262"/>
                  <a:pt x="5784" y="288"/>
                </a:cubicBezTo>
                <a:cubicBezTo>
                  <a:pt x="5784" y="190"/>
                  <a:pt x="5786" y="5"/>
                  <a:pt x="5784" y="25"/>
                </a:cubicBezTo>
                <a:cubicBezTo>
                  <a:pt x="5784" y="25"/>
                  <a:pt x="2926" y="12"/>
                  <a:pt x="0" y="0"/>
                </a:cubicBezTo>
                <a:cubicBezTo>
                  <a:pt x="9" y="620"/>
                  <a:pt x="3" y="1099"/>
                  <a:pt x="8" y="1374"/>
                </a:cubicBezTo>
                <a:close/>
              </a:path>
            </a:pathLst>
          </a:custGeom>
          <a:gradFill rotWithShape="0">
            <a:gsLst>
              <a:gs pos="0">
                <a:srgbClr val="1a708e"/>
              </a:gs>
              <a:gs pos="100000">
                <a:srgbClr val="6197af">
                  <a:alpha val="58039"/>
                </a:srgbClr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c2d7e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8" descr="Карта области4"/>
          <p:cNvPicPr/>
          <p:nvPr/>
        </p:nvPicPr>
        <p:blipFill>
          <a:blip r:embed="rId3"/>
          <a:stretch/>
        </p:blipFill>
        <p:spPr>
          <a:xfrm>
            <a:off x="2195640" y="189000"/>
            <a:ext cx="4564080" cy="64976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55471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30040" y="0"/>
            <a:ext cx="777240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0033"/>
                </a:solidFill>
                <a:latin typeface="Times New Roman"/>
              </a:rPr>
              <a:t>Доходы местного  бюджета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09320" y="1526760"/>
            <a:ext cx="2849400" cy="7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4"/>
          <p:cNvSpPr/>
          <p:nvPr/>
        </p:nvSpPr>
        <p:spPr>
          <a:xfrm>
            <a:off x="3724200" y="3751200"/>
            <a:ext cx="2244960" cy="2098800"/>
          </a:xfrm>
          <a:prstGeom prst="rect">
            <a:avLst/>
          </a:prstGeom>
          <a:gradFill rotWithShape="0">
            <a:gsLst>
              <a:gs pos="0">
                <a:srgbClr val="ffffee"/>
              </a:gs>
              <a:gs pos="100000">
                <a:srgbClr val="fffff9"/>
              </a:gs>
            </a:gsLst>
            <a:lin ang="16200000"/>
          </a:gradFill>
          <a:ln w="9360">
            <a:solidFill>
              <a:srgbClr val="fafa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тья 62 Бюджетного Кодекса Российской Федер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5"/>
          <p:cNvSpPr/>
          <p:nvPr/>
        </p:nvSpPr>
        <p:spPr>
          <a:xfrm>
            <a:off x="5969160" y="3751200"/>
            <a:ext cx="2347920" cy="2100240"/>
          </a:xfrm>
          <a:prstGeom prst="rect">
            <a:avLst/>
          </a:prstGeom>
          <a:gradFill rotWithShape="0">
            <a:gsLst>
              <a:gs pos="0">
                <a:srgbClr val="ffffee"/>
              </a:gs>
              <a:gs pos="100000">
                <a:srgbClr val="fffff9"/>
              </a:gs>
            </a:gsLst>
            <a:lin ang="16200000"/>
          </a:gradFill>
          <a:ln w="9360">
            <a:solidFill>
              <a:srgbClr val="fafa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а, получаемые из других бюдже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11"/>
          <p:cNvSpPr/>
          <p:nvPr/>
        </p:nvSpPr>
        <p:spPr>
          <a:xfrm>
            <a:off x="1417680" y="3751200"/>
            <a:ext cx="2287440" cy="2098800"/>
          </a:xfrm>
          <a:prstGeom prst="rect">
            <a:avLst/>
          </a:prstGeom>
          <a:gradFill rotWithShape="0">
            <a:gsLst>
              <a:gs pos="0">
                <a:srgbClr val="ffffee"/>
              </a:gs>
              <a:gs pos="100000">
                <a:srgbClr val="fffff9"/>
              </a:gs>
            </a:gsLst>
            <a:lin ang="16200000"/>
          </a:gradFill>
          <a:ln w="9360">
            <a:solidFill>
              <a:srgbClr val="fafa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мельный налог, налог на имущество физических лиц, налоговые доходы от федеральных налогов и сборов, в том числе налогов, предусмотренных специальными налоговыми режим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Стрелка вниз 6"/>
          <p:cNvSpPr/>
          <p:nvPr/>
        </p:nvSpPr>
        <p:spPr>
          <a:xfrm>
            <a:off x="2050920" y="2576520"/>
            <a:ext cx="936720" cy="795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Стрелка вниз 8"/>
          <p:cNvSpPr/>
          <p:nvPr/>
        </p:nvSpPr>
        <p:spPr>
          <a:xfrm>
            <a:off x="4356000" y="2576520"/>
            <a:ext cx="863640" cy="795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Стрелка вниз 9"/>
          <p:cNvSpPr/>
          <p:nvPr/>
        </p:nvSpPr>
        <p:spPr>
          <a:xfrm>
            <a:off x="6588000" y="2576520"/>
            <a:ext cx="863640" cy="795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13"/>
          <p:cNvSpPr/>
          <p:nvPr/>
        </p:nvSpPr>
        <p:spPr>
          <a:xfrm>
            <a:off x="6097680" y="1415880"/>
            <a:ext cx="1904760" cy="914400"/>
          </a:xfrm>
          <a:prstGeom prst="rect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e1"/>
                </a:solidFill>
                <a:latin typeface="Arial"/>
              </a:rPr>
              <a:t>Безвозмездные поступ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16"/>
          <p:cNvSpPr/>
          <p:nvPr/>
        </p:nvSpPr>
        <p:spPr>
          <a:xfrm>
            <a:off x="3894120" y="1415880"/>
            <a:ext cx="1905120" cy="914400"/>
          </a:xfrm>
          <a:prstGeom prst="rect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e1"/>
                </a:solidFill>
                <a:latin typeface="Arial"/>
              </a:rPr>
              <a:t>Неналоговые до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17"/>
          <p:cNvSpPr/>
          <p:nvPr/>
        </p:nvSpPr>
        <p:spPr>
          <a:xfrm>
            <a:off x="1609560" y="1415880"/>
            <a:ext cx="1905120" cy="914400"/>
          </a:xfrm>
          <a:prstGeom prst="rect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e1"/>
                </a:solidFill>
                <a:latin typeface="Arial"/>
              </a:rPr>
              <a:t>Налоговые до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9311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1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стные налоги, установленные на территории Гришевского сельского посел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Налог на имущество физических л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Земельный нало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Структура налоговых и неналоговых доходов бюджета Гришевского сельского поселения  </a:t>
            </a:r>
            <a:br>
              <a:rPr sz="4400"/>
            </a:b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на 20</a:t>
            </a:r>
            <a:r>
              <a:rPr b="1" lang="ru-RU" sz="2800" spc="-1" strike="noStrike">
                <a:solidFill>
                  <a:srgbClr val="330033"/>
                </a:solidFill>
                <a:latin typeface="Arial"/>
              </a:rPr>
              <a:t>20</a:t>
            </a: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 год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97" name="Chart 1"/>
          <p:cNvGraphicFramePr/>
          <p:nvPr/>
        </p:nvGraphicFramePr>
        <p:xfrm>
          <a:off x="771480" y="1990800"/>
          <a:ext cx="7313760" cy="50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Char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1480" y="1990800"/>
                    <a:ext cx="7313760" cy="50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Структура налоговых и неналоговых доходов бюджета Гришевского  сельского поселения  </a:t>
            </a:r>
            <a:br>
              <a:rPr sz="4400"/>
            </a:b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на 2021 год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Chart 1"/>
          <p:cNvSpPr/>
          <p:nvPr/>
        </p:nvSpPr>
        <p:spPr>
          <a:xfrm>
            <a:off x="2257560" y="-2389320"/>
            <a:ext cx="6524640" cy="46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333" descr="clip_image001"/>
          <p:cNvPicPr/>
          <p:nvPr/>
        </p:nvPicPr>
        <p:blipFill>
          <a:blip r:embed="rId1"/>
          <a:stretch/>
        </p:blipFill>
        <p:spPr>
          <a:xfrm>
            <a:off x="971640" y="1552680"/>
            <a:ext cx="7488000" cy="53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Структура налоговых и неналоговых доходов бюджета Гришевского сельского поселения  </a:t>
            </a:r>
            <a:br>
              <a:rPr sz="2800"/>
            </a:b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на 2022 год</a:t>
            </a: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3" name="Object 9"/>
          <p:cNvGraphicFramePr/>
          <p:nvPr/>
        </p:nvGraphicFramePr>
        <p:xfrm>
          <a:off x="1476360" y="1914480"/>
          <a:ext cx="6486480" cy="466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914480"/>
                    <a:ext cx="6486480" cy="46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3:13:38Z</dcterms:created>
  <dc:creator>trofimova_ey</dc:creator>
  <dc:description/>
  <dc:language>en-US</dc:language>
  <cp:lastModifiedBy>user</cp:lastModifiedBy>
  <cp:lastPrinted>2013-10-03T09:30:52Z</cp:lastPrinted>
  <dcterms:modified xsi:type="dcterms:W3CDTF">2020-05-14T07:53:39Z</dcterms:modified>
  <cp:revision>155</cp:revision>
  <dc:subject/>
  <dc:title>Слайд 1</dc:title>
</cp:coreProperties>
</file>