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B5C-2562-4154-9F14-8713D073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3AE-8AAF-4C97-BFD5-54125357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5F5-21C6-4434-8E0F-1A63DE49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98F-D695-48B2-B8EB-5A24DDC9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D64AE-F99F-458A-ABCB-AF4DD6443B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BF8A2-16FC-4708-981E-FAF34A65E6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450E0-AC63-44C9-BD2F-CF720622C3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99173-2668-488E-AEC1-1FEC20ACC5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F0159-2428-4C4C-BE50-1B09366B9A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98F88-F9B9-45EE-8147-DC7E84CDC2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9C392-1877-4E05-8C78-EA1030C584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87C-3612-4987-9A10-143C80FD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F3F60-B340-4AF0-A722-75C2C8A050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1D319-8BBA-4528-99B1-0516B196C5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4C9C0-BD98-4CF9-9BFD-9E74AF723A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78ECF-3003-4C9B-B84A-853A213234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5FFB3-199F-4956-B83A-E8E9FADBE1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DFEE6-B580-4C12-89EF-A6731DCF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8357D-52FC-42B7-A9E3-DD8606F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F7F52-9933-46EC-A9BC-AAC51554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4494FC-7342-4FD9-9142-BF0935CD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643D3-0D57-438E-90F6-D1153769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155-B990-4AD3-A145-5B4B0C6B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F144C4-0543-4987-A125-8E79D0C1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81068-2AA4-4450-89C7-BB46A44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75B27-2BE2-49E7-9671-379CCD1F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08176B-0EEF-4756-95E1-39B6C90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0B4D2-1BE7-4160-AF29-2FD2E9A3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73065-126B-47F0-9374-10F74013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4A75D6-EC2A-425C-8055-D0390ECF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DB1-F962-4A9D-BCD0-4B2934A9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7CE-86A9-46A8-9923-A7F2E6A6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2C9-43C7-46CB-A933-275C4C5D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69F-E53B-4A3F-947C-BBD121FB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161-3706-4BE4-8E5A-C7C24B78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7E4-F734-4037-92B1-7EAF513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55C4-3C9C-4AF5-86EA-543BECC0EF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/>
            <a:ahLst/>
            <a:rect l="l" t="t" r="r" b="b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/>
            <a:ahLst/>
            <a:rect l="l" t="t" r="r" b="b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/>
            <a:ahLst/>
            <a:rect l="l" t="t" r="r" b="b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541F-3E6D-49FE-82BC-61F19CEA761C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8D78-319B-4DDC-8809-0E8507BEBA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/>
            <a:ahLst/>
            <a:rect l="l" t="t" r="r" b="b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/>
            <a:ahLst/>
            <a:rect l="l" t="t" r="r" b="b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6867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33"/>
                </a:solidFill>
                <a:latin typeface="Times New Roman"/>
              </a:rPr>
              <a:t>Основные цели бюджетной политики на 20</a:t>
            </a:r>
            <a:r>
              <a:rPr b="1" i="1" lang="ru-RU" sz="4000" spc="-1" strike="noStrike">
                <a:solidFill>
                  <a:srgbClr val="330033"/>
                </a:solidFill>
                <a:latin typeface="Arial"/>
              </a:rPr>
              <a:t>20</a:t>
            </a:r>
            <a:r>
              <a:rPr b="1" i="1" lang="ru-RU" sz="4000" spc="-1" strike="noStrike">
                <a:solidFill>
                  <a:srgbClr val="330033"/>
                </a:solidFill>
                <a:latin typeface="Times New Roman"/>
              </a:rPr>
              <a:t>год и плановый период 20</a:t>
            </a:r>
            <a:r>
              <a:rPr b="1" i="1" lang="ru-RU" sz="4000" spc="-1" strike="noStrike">
                <a:solidFill>
                  <a:srgbClr val="330033"/>
                </a:solidFill>
                <a:latin typeface="Arial"/>
              </a:rPr>
              <a:t>21</a:t>
            </a:r>
            <a:r>
              <a:rPr b="1" i="1" lang="ru-RU" sz="40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i="1" lang="ru-RU" sz="4000" spc="-1" strike="noStrike">
                <a:solidFill>
                  <a:srgbClr val="330033"/>
                </a:solidFill>
                <a:latin typeface="Arial"/>
              </a:rPr>
              <a:t>2</a:t>
            </a:r>
            <a:r>
              <a:rPr b="1" i="1" lang="ru-RU" sz="4000" spc="-1" strike="noStrike">
                <a:solidFill>
                  <a:srgbClr val="330033"/>
                </a:solidFill>
                <a:latin typeface="Times New Roman"/>
              </a:rPr>
              <a:t> гг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4360" y="1916280"/>
          <a:ext cx="8351640" cy="53323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11602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588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606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936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7588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33"/>
                </a:solidFill>
                <a:latin typeface="Times New Roman"/>
              </a:rPr>
              <a:t>Сбалансированность бюдж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d6"/>
              </a:gs>
              <a:gs pos="100000">
                <a:srgbClr val="f5f5eb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Arial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20"/>
          <p:cNvGrpSpPr/>
          <p:nvPr/>
        </p:nvGrpSpPr>
        <p:grpSpPr>
          <a:xfrm>
            <a:off x="3419640" y="3246480"/>
            <a:ext cx="2592360" cy="1360440"/>
            <a:chOff x="3419640" y="3246480"/>
            <a:chExt cx="2592360" cy="1360440"/>
          </a:xfrm>
        </p:grpSpPr>
        <p:sp>
          <p:nvSpPr>
            <p:cNvPr id="196" name="TextBox 21"/>
            <p:cNvSpPr/>
            <p:nvPr/>
          </p:nvSpPr>
          <p:spPr>
            <a:xfrm>
              <a:off x="3419640" y="3246480"/>
              <a:ext cx="25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0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401,7          7401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Левая фигурная скобка 22"/>
            <p:cNvSpPr/>
            <p:nvPr/>
          </p:nvSpPr>
          <p:spPr>
            <a:xfrm rot="16200000">
              <a:off x="4510080" y="347976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Скругленный прямоугольник 26"/>
          <p:cNvSpPr/>
          <p:nvPr/>
        </p:nvSpPr>
        <p:spPr>
          <a:xfrm>
            <a:off x="971640" y="5373720"/>
            <a:ext cx="655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e0c2"/>
              </a:gs>
              <a:gs pos="50000">
                <a:srgbClr val="ffffe1"/>
              </a:gs>
              <a:gs pos="100000">
                <a:srgbClr val="e0e0c2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Arial"/>
              </a:rPr>
              <a:t>Бюджет сбалансирован  без дефицита и профи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e1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e1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user</cp:lastModifiedBy>
  <cp:lastPrinted>2013-10-03T09:30:52Z</cp:lastPrinted>
  <dcterms:modified xsi:type="dcterms:W3CDTF">2020-05-14T07:53:03Z</dcterms:modified>
  <cp:revision>135</cp:revision>
  <dc:subject/>
  <dc:title>Слайд 1</dc:title>
</cp:coreProperties>
</file>