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DDD-5A89-4EBA-B8D8-F1F94628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503-73BD-46C7-95D3-857079F9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EFE-6131-4FD6-9C42-AE2AA2A7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E6F-0EF9-499A-9772-270573CF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789D1-77A1-406D-B77D-A8C8627DCD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C46B6-506F-42D4-ABAB-D84194CA57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E5A5C-8754-48E1-A3F8-781C0865B7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9B947-3191-49A0-BC5F-5003F862B3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3B53D-C1CF-4865-B4BE-95ADA3CC3B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963AE-F55C-462F-B4E2-AA826FF8E3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ED9B0-5247-4945-8ED5-7ED4E52109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9A5-B7DD-470C-A52E-D13CAC0D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F0AB8-764C-4901-9EE9-2602EE9BAB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D2E64-041C-40AF-BEA6-0E588DFCC3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E47B0-ED28-44C2-B548-5672C0335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7D7F9-153C-4D08-B02E-B12E900924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39C62-413A-42E1-8827-D759B11173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F0929-C813-4C95-920F-B39A5C22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1D583-C69E-4483-8613-4ABDFADD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9F966-20FC-4C11-9F05-BE0109B5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18A8C-2F46-40A2-83A5-87602F59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9119A-EBDA-45F9-B39F-F845F9F7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88D-FD10-4D98-A1A9-5EFA8C18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E250E-1E88-4028-9EDF-C9C32AF9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11A5B-6345-49C5-8E88-1CA3B419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2B1EC-1531-4849-BBFE-C6040E5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0461D-A99F-4A03-8E44-D535197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A6AEE-2051-496E-8AC0-B3089128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5FB54-B58E-4CDC-B619-22C64DD1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A87F9-907A-48D8-B7DF-0580148A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8F9-F77D-4CA6-B957-F28D8284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5AC-8B57-4933-A327-AD767BCE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73C-B629-4C68-B495-176A1C23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BAA-DCEC-46CB-98C7-1362DB20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04B-FBA1-497F-93D7-2FECADE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4E7-CC98-43D6-9DA1-130F7CC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6247-F300-4340-A3B9-D80F5402BF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/>
            <a:ahLst/>
            <a:rect l="l" t="t" r="r" b="b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/>
            <a:ahLst/>
            <a:rect l="l" t="t" r="r" b="b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/>
            <a:ahLst/>
            <a:rect l="l" t="t" r="r" b="b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629C-9A30-45CD-9224-78947AF78487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473E-9C5B-4AA4-A09B-3E54417BE8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/>
            <a:ahLst/>
            <a:rect l="l" t="t" r="r" b="b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/>
            <a:ahLst/>
            <a:rect l="l" t="t" r="r" b="b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33"/>
                </a:solidFill>
                <a:latin typeface="Times New Roman"/>
              </a:rPr>
              <a:t>Расходы бюдж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128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ыплачиваемые из бюджета денеж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ъём расход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исходя из объёма средств, необходимых для исполнения установленных законодательством полномочий органов местного самоуправл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местного  бюджет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циру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азделам и подразде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униципальным программам по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Гришевского  сельского поселения на 20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20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год, тыс. руб. 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6" name="Object 5"/>
          <p:cNvGraphicFramePr/>
          <p:nvPr/>
        </p:nvGraphicFramePr>
        <p:xfrm>
          <a:off x="1190520" y="1628640"/>
          <a:ext cx="6400800" cy="44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1628640"/>
                    <a:ext cx="640080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Гришевского  сельского поселения на 2021год, тыс. руб. 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1343160" y="1695600"/>
          <a:ext cx="7010280" cy="43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695600"/>
                    <a:ext cx="701028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Гришевского сельского поселения на 202</a:t>
            </a:r>
            <a:r>
              <a:rPr b="1" i="1" lang="ru-RU" sz="2400" spc="-1" strike="noStrike">
                <a:solidFill>
                  <a:srgbClr val="330033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год, тыс. руб. 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1905120" y="1847880"/>
          <a:ext cx="6400800" cy="447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47880"/>
                    <a:ext cx="64008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60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33"/>
                </a:solidFill>
                <a:latin typeface="Times New Roman"/>
              </a:rPr>
              <a:t>Проект бюджета Гришевского сельского поселения формируется в рамках 1 муниципальной программы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2195640" y="1628640"/>
            <a:ext cx="4897440" cy="1295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ая программа на 2019 – 2024 го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03640" y="6165720"/>
            <a:ext cx="3097080" cy="30708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,0 % расходов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2857680" y="3500280"/>
            <a:ext cx="3571560" cy="1357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админист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шевског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Подгорен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flipV="1" rot="5420400">
            <a:off x="4642560" y="2347560"/>
            <a:ext cx="358920" cy="7129440"/>
          </a:xfrm>
          <a:custGeom>
            <a:avLst/>
            <a:gdLst>
              <a:gd name="textAreaLeft" fmla="*/ 0 w 358920"/>
              <a:gd name="textAreaRight" fmla="*/ 359280 w 358920"/>
              <a:gd name="textAreaTop" fmla="*/ 360 h 7129440"/>
              <a:gd name="textAreaBottom" fmla="*/ 7130160 h 712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7"/>
          <p:cNvSpPr/>
          <p:nvPr/>
        </p:nvSpPr>
        <p:spPr>
          <a:xfrm>
            <a:off x="4714920" y="3071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9"/>
          <p:cNvSpPr/>
          <p:nvPr/>
        </p:nvSpPr>
        <p:spPr>
          <a:xfrm>
            <a:off x="4140360" y="5013360"/>
            <a:ext cx="1511280" cy="52020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4605,0 тыс.р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user</cp:lastModifiedBy>
  <cp:lastPrinted>2013-10-03T09:30:52Z</cp:lastPrinted>
  <dcterms:modified xsi:type="dcterms:W3CDTF">2020-05-14T07:52:23Z</dcterms:modified>
  <cp:revision>146</cp:revision>
  <dc:subject/>
  <dc:title>Слайд 1</dc:title>
</cp:coreProperties>
</file>