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1B4D-C51C-4915-ABF3-7F81F2020D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377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19E255-4DC3-491F-8C5F-0CB660F5A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7000" y="7365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692240"/>
            <a:ext cx="54324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EEDC-3C98-4F28-8540-F23835C59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005-273B-491D-9158-DB5FDC9E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EE1-DA64-4B30-947A-4922CEFB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332-4ABE-4479-931F-C69BEEF0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9D1-18EB-4CBA-8B7B-779D0FDC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72175-78A5-4FBC-A603-E8F0FA3A2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51A9-B88F-4337-8B71-D13383365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A705E-0259-4F69-8864-22FB9E869D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546B9-5B80-471D-837F-8D1AC5C4A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A703F-6977-43DE-9380-F280C181B7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5AE88-9A61-4102-B7B7-AD5225DAA4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146B-E50F-4401-92DA-D485659147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D6E-303B-4597-BFAD-9530005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E715F-DCE4-490A-873D-E85BE9223F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6758-02EC-4E89-AB54-3B3E28624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2A717-2AAD-4BA9-952D-8EC964A5BE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E7EFD-110D-481E-8FDD-38B577857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0C4E-0F95-461B-8063-B17FFC849B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46CEE-BBE0-49E3-AC02-9555D34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1FB78E-703A-4422-82BE-670E6ADB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6CC83-43E1-40B1-A65B-5430A785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21603-1579-4DC6-97F6-ACEA4A5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05D2B-1D32-4347-8120-F0F11A4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241-8F9B-470E-83C5-D1413F81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DD339-36FC-463A-A2A8-7D2BD982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7BB94-247E-43CC-BAA8-F8C4F642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F53606-6595-4041-BCE2-9609F2A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19790-3484-46F7-9A81-5DFE549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39912-3D9E-40B6-ABE1-0F6B889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9448C-7B18-4158-8514-42A821C4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FDC3F-80CB-48D5-B684-0F0E63B2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8C2-A90F-4621-BC6A-18C59077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391-A1FC-4C05-921D-792249D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0AB-C296-4A73-A3CD-E2CB42CB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F25-7EF0-4B80-9284-9ABBC8F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7DB-C689-4B64-83C5-5C3DDFB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D3E-FC82-4E71-8FB4-4B33644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E5C-E77B-438F-BE6D-98E4E2DC4F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/>
            <a:ahLst/>
            <a:rect l="l" t="t" r="r" b="b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/>
            <a:ahLst/>
            <a:rect l="l" t="t" r="r" b="b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/>
            <a:ahLst/>
            <a:rect l="l" t="t" r="r" b="b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C03-0FD0-4F93-A355-99E22061E513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68FE-A0F9-49F6-B3C0-BCAB92D607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/>
            <a:ahLst/>
            <a:rect l="l" t="t" r="r" b="b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/>
            <a:ahLst/>
            <a:rect l="l" t="t" r="r" b="b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7548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Times New Roman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603440" y="3214800"/>
            <a:ext cx="6848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К БЮДЖ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ГРИШЕВСКОГО СЕЛЬСКОГО ПО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НА 20</a:t>
            </a:r>
            <a:r>
              <a:rPr b="1" lang="ru-RU" sz="2800" spc="-1" strike="noStrike">
                <a:solidFill>
                  <a:srgbClr val="a600a6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И ПЛАНОВЫЙ ПЕРИОД 202</a:t>
            </a:r>
            <a:r>
              <a:rPr b="1" lang="ru-RU" sz="2800" spc="-1" strike="noStrike">
                <a:solidFill>
                  <a:srgbClr val="a600a6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-202</a:t>
            </a:r>
            <a:r>
              <a:rPr b="1" lang="ru-RU" sz="2800" spc="-1" strike="noStrike">
                <a:solidFill>
                  <a:srgbClr val="a600a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Г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71360" y="1071720"/>
            <a:ext cx="77770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 для граждан разрабатывается в целях ознакомления граждан с основными положениями проекта решения  о бюджете Гришевского сельского поселение   на 2020 год и плановый период 2021-2022 гг в доступной форме для широкого круга заинтересованных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348000" y="1989000"/>
            <a:ext cx="4824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Опыт-7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Варваровка-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горьевка-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шевка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Кошарное-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Новоалександровка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Репьев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априно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ерпанки-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тепановка-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Терновое-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71640" y="5013360"/>
            <a:ext cx="468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788000" y="1916280"/>
            <a:ext cx="43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332000" y="1806840"/>
            <a:ext cx="6769080" cy="5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селение  1427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6836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ришевское сельское поселение 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на 01.01.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Этапы составления и утверждения  бюджета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го поселения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Схема 3" descr=""/>
          <p:cNvPicPr/>
          <p:nvPr/>
        </p:nvPicPr>
        <p:blipFill>
          <a:blip r:embed="rId1"/>
          <a:stretch/>
        </p:blipFill>
        <p:spPr>
          <a:xfrm>
            <a:off x="658800" y="1414440"/>
            <a:ext cx="8399520" cy="5357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3121200" y="1773360"/>
            <a:ext cx="5903640" cy="824040"/>
          </a:xfrm>
          <a:prstGeom prst="rect">
            <a:avLst/>
          </a:prstGeom>
          <a:solidFill>
            <a:srgbClr val="f5f5eb"/>
          </a:solidFill>
          <a:ln w="38160">
            <a:solidFill>
              <a:srgbClr val="aeae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 Гришевского сельского поселения  начинается за 9 месяцев до начала очередного финансового года. Непосредственное составление проекта бюджета исполняет главный бухгалтер сельского поселения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112920" y="3357720"/>
            <a:ext cx="5904000" cy="12657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 Гришевского сельского поселения глава   поселения  вносит на рассмотрение Совета народных депутатов Гришевского  сельского поселения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 Гришевского сельского поселения  проводятся публичные слушания. В слушаниях участвуют граждане, проживающие в Сагуновском сельском поселении, а также представители организаций, осуществляющих деятельность на территории Гришевского сельского поселения  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119400" y="4929120"/>
            <a:ext cx="5905440" cy="1812600"/>
          </a:xfrm>
          <a:prstGeom prst="rect">
            <a:avLst/>
          </a:prstGeom>
          <a:solidFill>
            <a:srgbClr val="ffc7c7"/>
          </a:solidFill>
          <a:ln w="38160">
            <a:solidFill>
              <a:srgbClr val="e7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бюджета Гришевского сельского поселения  утверждается Советом народных депутатов Гришевского сельского поселения  в форме решения Совета народных депутатов сельского поселения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ое  Советом народных депутатов Гришевского сельского поселения решение о проекте бюджете Гришевского сельского поселения   подлежит обнародованию путем опубликования его в  вестнике муниципальных правовых актов Гришевского сельского поселения Подгоренского муниципального района Воронеж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кументы, на основании которых составляется проект бюджет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е поселение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1554120" y="206064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1547640" y="3151080"/>
            <a:ext cx="6704280" cy="91692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Губернатора области, в котором определяются основные направления бюджетной 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547640" y="4292640"/>
            <a:ext cx="6697800" cy="91692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Подгоренского муниципального  района  и Гришевского сельского 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547640" y="544500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ая  программа Грише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гноз социально - экономического развития Гришевского сельского поселе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3500280" y="3000240"/>
            <a:ext cx="5597640" cy="1459800"/>
          </a:xfrm>
          <a:prstGeom prst="roundRect">
            <a:avLst>
              <a:gd name="adj" fmla="val 42380"/>
            </a:avLst>
          </a:prstGeom>
          <a:gradFill rotWithShape="0">
            <a:gsLst>
              <a:gs pos="0">
                <a:srgbClr val="ffd1ff"/>
              </a:gs>
              <a:gs pos="100000">
                <a:srgbClr val="f7f7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8892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направления и ожидаемые результаты социально-экономического развития Гришевского сельского поселения   в среднесрочной персп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576360" y="1989000"/>
            <a:ext cx="2663640" cy="37436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743640"/>
              <a:gd name="textAreaBottom" fmla="*/ 3613680 h 3743640"/>
            </a:gdLst>
            <a:ahLst/>
            <a:rect l="textAreaLeft" t="textAreaTop" r="textAreaRight" b="textAreaBottom"/>
            <a:pathLst>
              <a:path w="21600" h="30357">
                <a:moveTo>
                  <a:pt x="3600" y="0"/>
                </a:moveTo>
                <a:arcTo wR="3600" hR="3600" stAng="16200000" swAng="-5400000"/>
                <a:lnTo>
                  <a:pt x="0" y="26757"/>
                </a:lnTo>
                <a:arcTo wR="3600" hR="3600" stAng="10800000" swAng="-5400000"/>
                <a:lnTo>
                  <a:pt x="18000" y="30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 социально-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ишевского сельского посе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 2018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 на плановый период до 202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6"/>
          <p:cNvSpPr/>
          <p:nvPr/>
        </p:nvSpPr>
        <p:spPr>
          <a:xfrm>
            <a:off x="539640" y="1628640"/>
            <a:ext cx="8280360" cy="302436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ый бюджет  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Советом народных депу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евского сельского посел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 доходов и расходов на очере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7716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4c"/>
                </a:solidFill>
                <a:latin typeface="Arial"/>
              </a:rPr>
              <a:t>Местный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user</cp:lastModifiedBy>
  <cp:lastPrinted>2013-10-03T09:30:52Z</cp:lastPrinted>
  <dcterms:modified xsi:type="dcterms:W3CDTF">2020-05-14T07:54:29Z</dcterms:modified>
  <cp:revision>166</cp:revision>
  <dc:subject/>
  <dc:title>Слайд 1</dc:title>
</cp:coreProperties>
</file>